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BDC6-578D-4859-A66C-21B1A1D88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0201-D40B-4121-93FE-21B112BC54A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4512-EFC3-444D-A749-90F5A2B3E01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DEC6-B7FE-45C5-BBC5-DB8760C0D15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2F6D-629D-425F-A64B-35DFBA1FC5D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D157-ABC1-4D81-8530-E89D9CF8A82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0438-F466-44F4-9704-2A64A6C9EF8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CC4D-0ED4-44E3-8422-FC1B13117BC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5099-223E-4365-8FE4-D8ACB804D35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2E59-E866-48BD-AE75-86F29D9F7D8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C362-20E8-4947-99D7-3A186E6270F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670C-4961-47EF-A500-631DF31230F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6706-E0A4-48AA-8784-C34205B1E75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ED62-CB24-412C-8871-45CDD54DCA8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B98D-E878-48F8-B189-E9DF2CEC555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D677-38B1-4643-8E22-5F611FBF69F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9C2-53CB-4B74-B3BF-2A54253E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2C2E-2972-449C-9209-A42CB5A8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4CDA-4321-4E8D-B088-D6121CE9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64A-7C04-4462-9087-E97A52D4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2DAC-2A67-456E-B083-09BB6D03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CE59-3775-48B6-9F1B-73A86BD3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E883-8B2C-44C7-9F13-EAA32B68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4228-B1CC-408B-8FAA-C4BDF0E2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3319-ACBD-4CDB-AC0A-BB47C7BE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F06C-AAC6-4C87-A626-F2A68076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C3CE-5941-4175-8EE5-4FD555F2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EDC6-DFC4-460D-901C-9A101FE8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4C26-680B-47C5-B94A-CBDE5045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87F2-59C8-451C-8BF1-62B6BCF2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2449-7017-48E3-9B8C-D3AEEABE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FE03-8F72-413E-8697-E19C3C71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84F9-03EA-4593-8C23-EF82A4BB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DACC3-1CDD-46B3-B277-289821F7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DAEB7-A06C-4F66-91C4-34F28C60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CA677-D169-4198-9A47-2B8A5223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6D632-4EB1-4A01-91DF-CD6086A2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0F3D1-3E5B-4770-8643-F89610C7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6747-6D48-4FFF-95F7-4B7FBE31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36CF9-7A32-4798-A508-2A1190CA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70B4-ECA2-4DCB-BC0E-2EB10FA3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0E28B-C8FC-4975-8084-CE7B7F52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A1A06-4336-4F99-887F-60486DDE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502BA-01A2-4303-92F8-CCA74E7C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8B113-3095-458A-A36A-0CED174C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A1F37-5095-4493-9C52-BCD78E2C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1683D-8626-4A1F-B0B9-3C8C7B26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FCD3C-049B-4F09-AAF8-219AAF55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77305-82B5-4C53-9043-0BFF1D61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3DEF-16EC-4DB7-B621-F4C47FA9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FE495-71EB-4FB4-9332-7D3C26C7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6DDA4-8BFE-4E72-8892-1CE7ED5C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CB92F-5724-4A4C-A0EE-8EB9AF84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CBD8C-193E-4447-9364-4E238BB5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E074F-48CE-4140-8CE0-2D45F1F2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CA463-3059-4B95-B59C-6A0057DD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48109-0423-4B08-BFC9-6060AF33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8EC62-C252-4630-AE36-2BE894BE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1DB0C-B86A-46FE-8BC4-65514627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1DEE6-8128-4BB6-949C-8303F785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617D-611B-42C5-B9D3-CC15E7AC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6A88E-6D97-46A4-91BA-9AE449A3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ED420-E437-44BD-8B4B-8A5C6485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38633-BA3A-49A4-8C4D-989B2858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751E0-2E56-4780-B05C-B459D729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E61EB-417B-49CA-BEF5-C6382940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CA1E2-3D29-47D6-994C-36DBBFB6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B7F1D-E984-4697-8FB7-246F7806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9FA62-295B-4324-95C9-FA6BC165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E1AF9-448E-4843-AE13-E6BF350F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E7F3A-F772-42D4-BE79-07C01785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8A53-D960-4C16-8C63-B54B9E63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3CF40-B1CF-4B1A-B4BC-BB9507E9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4C862-D977-42D0-B457-6B00E74A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776BE-AB0F-402E-868E-444CA3AB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08D10-D98C-4912-8098-2CD9B7E7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4FEBA-3225-4B10-94DA-4A3A9DD2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43337-5E22-4AB2-A63B-50C43AFE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D6F16-57DE-4896-B15E-77302C85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3F258-01BA-413C-A263-6043F423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A302F-2D9D-46BE-A20C-22F9F19C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DB447-8F76-4F99-8806-45FD1C06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A50F-7708-4E28-AC8B-E088CDF0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8C5AD-FA33-4214-8C0C-5467C80E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34AC4-CE55-4265-84CA-EB5AD5D5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BBCC3-EA20-4BDD-8CB1-7A7CD345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4D7-7F57-4098-BCE1-7AA66546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09E-76C0-4C10-9563-684EA52A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9949-4E42-4364-A8E8-C1DAC5A2D26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9027-199A-43F0-847E-B5818BC338B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F24A-8D9E-465C-AC8B-CC61BCE15A3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A656-13EB-44CB-893C-0889503A0B4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AD57-5584-4FB3-971C-75E4594728C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6E2A-0681-4C75-A234-D838E23E0C2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4" descr=""/>
          <p:cNvPicPr/>
          <p:nvPr/>
        </p:nvPicPr>
        <p:blipFill>
          <a:blip r:embed="rId1"/>
          <a:stretch/>
        </p:blipFill>
        <p:spPr>
          <a:xfrm>
            <a:off x="512640" y="1365120"/>
            <a:ext cx="7882200" cy="1895760"/>
          </a:xfrm>
          <a:prstGeom prst="rect">
            <a:avLst/>
          </a:prstGeom>
          <a:ln w="0">
            <a:noFill/>
          </a:ln>
        </p:spPr>
      </p:pic>
      <p:sp>
        <p:nvSpPr>
          <p:cNvPr id="303" name="Subtitle 3"/>
          <p:cNvSpPr/>
          <p:nvPr/>
        </p:nvSpPr>
        <p:spPr>
          <a:xfrm>
            <a:off x="1371600" y="39625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2133360" y="4952520"/>
            <a:ext cx="5105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lin Sans FB"/>
              </a:rPr>
              <a:t>Rizalina G. Gomez, Ph.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Arial Narrow"/>
              </a:rPr>
              <a:t>Other Terms for Educational / Instructional Med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raining a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Visual a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udio a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udio-visual a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arning resourc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structional materi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ducational materi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ulti-sensory materi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533520" y="609480"/>
          <a:ext cx="8229600" cy="2819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roadcast 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ss 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dium that disseminates info to a large number of recipients via telec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edia envisioned and designed to reach a very large aud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533520" y="3429000"/>
          <a:ext cx="8229600" cy="1884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dio and telev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wspapers, magazines, comics, radio, telev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457200" y="380880"/>
          <a:ext cx="8229600" cy="167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udio Med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isual Med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mphasizes use of hear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mphasizes use of the sense of sight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457200" y="3657600"/>
          <a:ext cx="8229600" cy="13939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udio-visual Med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mphasizes use of hearing and see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57200" y="2057400"/>
          <a:ext cx="8229600" cy="1295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 radio, audio discs, recordings, language lab, etc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 charts, pictures boards, diagrams, maps, models, etc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457200" y="5029200"/>
          <a:ext cx="8229600" cy="13716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V, videotapes / discs, sound filmstrips, printed materials with recorded s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457200" y="1371600"/>
          <a:ext cx="8229600" cy="386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0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rdwa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oftwa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ipment and related electronic and mechanical compon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ograms, printouts, or instructional materials that go with the mach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457200" y="380880"/>
          <a:ext cx="8229600" cy="3862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0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Med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n-Print Med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ed word is used predominantly in transmitting inform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fo is transmitted predominantly through AV 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457200" y="4267080"/>
          <a:ext cx="8229600" cy="1905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uide sheets, handouts, study guides, manuals, newsletters, 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ourier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V, models, real objects, audio recordings/discs, et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7200" y="8380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urc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quino, G., Abellera, R. and Hidalgo, L. (1988)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Principles of teaching and educational technology.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nila: National Bookstor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aro, C. (2007)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Teaching educational technology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Manila: Rex Publishi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entry, C. (1987)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Educational technology: A question of meaning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From Educational media and technology yearbook 1987. Littleton, CO. Libraries Unlimite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rabe, M. (2004).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 Integrating technology for meaningful learning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NY: Houghton Miffli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Jones, B. (1999)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A differentiating definition of instructional technology 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educational technology.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vailable onlin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 Narrow"/>
              </a:rPr>
              <a:t>Terms to be Cover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3410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ducation and Instru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ducational Technolog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structional Technolog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ther terms for educational/instructional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roadcast and Mass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udio, Visual, and Audio-Visual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ardware and Softw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int and Non-Print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 Narrow"/>
              </a:rPr>
              <a:t>Education vs Instr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cess used to impart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nterprise of supplying the conditions which ensure growth or adequacy of life irrespective of 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t of imparting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t of providing activities, materials and guidance that facilitates learning in either formal or informal situ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457200" y="879480"/>
          <a:ext cx="8229600" cy="4761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duca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struc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a field as wide as education itself, its primary concern is the design, implementation, and evaluation of curriculum and learning experiences, and how to improve and learn from them respectiv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focused on the teaching-learning process rather than on other aspects of edu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457200" y="1189080"/>
          <a:ext cx="8229600" cy="3994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duca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struc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a combination of instructional, learning, developmental, and managerial techn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those aspects of educational technology that are concerned primarily with instruction as contrasted to design and operation of instit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457200" y="655560"/>
          <a:ext cx="8229600" cy="5442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duca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struc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any move toward an analysis of the curriculum into specific objectives and instructional design, a branch of educational theory and practice concerned primarily with the design and the use of message which controls learning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systematic way of designing, carrying out, and evaluating the total process of learning and teaching in terms of specific objectives, based on research in human learning and 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457200" y="274680"/>
          <a:ext cx="8229600" cy="645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duca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struc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mary concern is the design, implementation and evaluation of curriculum and learning experiences and how to improve and learn from them respectiv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technology adapted and used for educational purpo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pplying scientific knowledge about human learning to the practical tasks of teaching and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means of connecting the teacher, the instructional experience &amp; learner in ways that enhance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 Narrow"/>
              </a:rPr>
              <a:t>Phases of Educational Techn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art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Line 4"/>
          <p:cNvSpPr/>
          <p:nvPr/>
        </p:nvSpPr>
        <p:spPr>
          <a:xfrm>
            <a:off x="29718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3886200" y="1828800"/>
            <a:ext cx="2438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ntify Objectiv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6324480" y="20574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5943600" y="2895480"/>
            <a:ext cx="243828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ign Learn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erien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Line 8"/>
          <p:cNvSpPr/>
          <p:nvPr/>
        </p:nvSpPr>
        <p:spPr>
          <a:xfrm flipH="1">
            <a:off x="6248160" y="3886200"/>
            <a:ext cx="9903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3733920" y="5029200"/>
            <a:ext cx="243828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aluate Learn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erien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Line 10"/>
          <p:cNvSpPr/>
          <p:nvPr/>
        </p:nvSpPr>
        <p:spPr>
          <a:xfrm flipH="1" flipV="1">
            <a:off x="2286000" y="403848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1523880" y="3495600"/>
            <a:ext cx="24386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Line 12"/>
          <p:cNvSpPr/>
          <p:nvPr/>
        </p:nvSpPr>
        <p:spPr>
          <a:xfrm>
            <a:off x="3962520" y="3657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3429000" y="40384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Line 14"/>
          <p:cNvSpPr/>
          <p:nvPr/>
        </p:nvSpPr>
        <p:spPr>
          <a:xfrm flipV="1">
            <a:off x="3429000" y="2361960"/>
            <a:ext cx="12193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01:51:16Z</dcterms:created>
  <dc:creator>User</dc:creator>
  <dc:description/>
  <dc:language>en-US</dc:language>
  <cp:lastModifiedBy>msu-iit</cp:lastModifiedBy>
  <dcterms:modified xsi:type="dcterms:W3CDTF">2011-06-28T02:56:15Z</dcterms:modified>
  <cp:revision>26</cp:revision>
  <dc:subject/>
  <dc:title>Educational Technology and its Related Terms</dc:title>
</cp:coreProperties>
</file>